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31.jpeg" ContentType="image/jpeg"/>
  <Override PartName="/ppt/media/image2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9.png" ContentType="image/png"/>
  <Override PartName="/ppt/media/image18.jpeg" ContentType="image/jpeg"/>
  <Override PartName="/ppt/media/image21.jpeg" ContentType="image/jpeg"/>
  <Override PartName="/ppt/media/image23.jpeg" ContentType="image/jpeg"/>
  <Override PartName="/ppt/media/image25.wmf" ContentType="image/x-wmf"/>
  <Override PartName="/ppt/media/image15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8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9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60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EB1C-6E0C-4214-A5E0-4007558EF5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F2B1-46E9-4EF8-B93E-0015863635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993-9720-4292-A9C0-6BA4664A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AC1-C04C-4808-A3D2-907BBA0C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37126-F437-4451-9449-AFEE1A44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5460D-800F-498E-A6AB-63001506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4C1EA-F72D-4DB0-94C3-2FBE193E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4446E-EB99-460C-B3FA-8A86BF3B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C5B16-438B-431D-9901-5E8F1DBC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A01AF-F6CB-4A02-896C-8E2B49E8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6CADA-CFB6-4C01-93A7-41037343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81A28-DA56-4052-9D70-22739A63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DC334-0BDC-47A7-BB0B-8BBE413C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1A082-05EB-43B1-8F8F-993E191B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D02-19B1-4841-87F4-F4ABCE5F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11D45-8462-4403-B0C3-61069C45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F6FB8-D4F9-4F2A-9265-49A958D8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ECCE8-1DAA-485A-8EDA-17E9E24A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ADB47-8373-4070-82B2-FF2BC5A8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55E29-CF62-4878-9CD1-248578AC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D383F-50CB-4C61-8F5D-0832EA76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52871-0CEE-453C-8C06-93447CFE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8C8A6-1EE3-4EAB-9AD4-693621D5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5A935-00F5-4FD0-A83B-EEFABC19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7DDF8-F9EE-4386-B1D0-24B5A6F7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558-80B4-4A56-B39B-69625594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B3340-D9F7-459B-A87E-B6EE8844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DD29D-2F05-4156-9C0A-29D5F012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EA5FF-4E74-4C1D-83A8-C22E3399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DC9ED-1919-42CA-8D27-F54017D6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FB564-6359-4FB6-A585-BD52C93C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8A9DE-3F07-4A62-A4E3-E9F3B47C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4560F-37BF-45B7-9691-7A8E354F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4E31C-6EBC-4B23-8C0C-ACCCFE8D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98087-79F5-4B67-9892-8F851ADC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D2187-DD40-44E0-A4BC-1EC41BED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657A-5891-4CF4-B621-87013F6F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FCC54-5873-4438-A9F9-1A12A6A0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97F97-B809-4627-9C01-5F15CDA8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42808-3925-4C59-8E10-09FA29E8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25774-D412-479D-823B-72AFD8B9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2CBA9-7A89-40EB-81B4-A83A78FD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89C97-1A65-458E-83F0-375542D8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19E59-CAAB-4FB0-9BDE-95ED890C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8C99E-12A9-4E53-9A49-E4161966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AC0F8-513B-486A-AEF1-02170992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C7FD8-6EF1-441D-93D4-11CA68C0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5D51-51DF-4DA6-A4B7-325CF467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9AE02-485D-4143-849F-56AB7BC8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F3CB6-2DC4-481F-A409-DDF5ECBC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CB19F-40B0-4356-8D32-DCA31868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4C149-EBF5-43A6-B2F8-E710C458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024DA-50EE-416F-893F-6183E004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DA165-CE47-4DBB-B7A2-BC41E146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8D79F-AB16-4195-9861-9CD10809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8167E-FFE5-4231-B299-E3416F13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51A94-4222-4B1A-A956-195B6828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F5C21-B451-4BEC-80B2-CDC471EE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AC3A-68F5-4674-925B-B07BD6F8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C4AE3-CAE4-46AD-BCC9-AA900617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C0D82-6F69-4945-8B9A-801F2F78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C55C1-74D6-48B2-88E7-0C9B33F9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382EF4-B11B-4EE0-B957-2A127E35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7DE85-3D9A-4039-95E4-F0A82469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DB7C6-20F1-452A-8BD8-061CEBC1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DA30D-110E-4170-816B-E7920094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DC8F2-F290-4842-BF77-A3E6F584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DDE65-22A3-4B78-96EC-103DE3B6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3DEE4-5EF1-4380-822C-4D34AF68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68BE-AADD-47F7-9CA2-D30DF587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C338A-D70A-49C7-908E-BC1F0B00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F1299-94BD-430A-91E6-CBC96F9D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E89D6-C672-4D8F-92E8-7FC45600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D7BD0-420F-4E34-9CCA-EC736003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DFAEBB-D9B0-4279-A567-2E854F3A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11A8B-BEBA-455F-B3D3-0DF0735B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A0EA7-8066-4665-9A39-69A7E4A8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81636-1354-454A-910E-36CE8FF4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B5192-E03A-41BF-BDFC-EAE38C16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782C5D-0068-457F-A7CD-F561C7B0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FA3D-D802-48F9-B6B4-65624E85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C0B85-8A61-4D4E-93E2-F4C9C1A6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668731-0C98-4887-BEA5-0727B0C7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C92D8E-9031-460F-BCD6-D1AF75B7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7947A-BBCF-4EC2-BC15-86736E5E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37A779-9805-4AF8-919B-E8DA64BD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A52DC-9D30-4056-A0AD-2CD682CF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1C213E-BF97-4F20-8F2A-6188B168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84063-A3EC-4037-8F35-4AB96E53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2125C-49C7-4AB2-AB6D-C3F4FF2E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3D44A1-9E94-4180-8220-9A203831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7101-B862-43FF-AFE7-81D385FA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B44AB-940F-487E-BBDA-5258AEED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863EBB-6BD3-4534-BCD9-908CA393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C49A43-0BD2-4C08-B0F6-A8620053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119C5-A178-4AEB-A282-CDB8D0D3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8E97C1-0D4A-4E51-B2B1-D0175DD3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52BDB8-FBC6-415C-91E3-F7415272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71C64-083C-44D9-92FA-773E4D19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DBAE5-B9E0-4B12-B939-D725BFB0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48578E-4FB3-4AAC-9EA9-34934605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AD6A78-F984-449D-A2CB-D9F9BA71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2BFC-3D7F-4A6A-8F35-440E637C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A415F-3F15-40F7-9097-681B72F7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C83B6E-1625-4C68-B4C7-1E9F529F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0DADC9-B512-43BA-8A2E-2CB8031D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F64B3-4CDD-41D2-8D5F-A87552DA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7E5EE-FFC0-49FE-A061-E9A2F398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A7C93-397B-4109-803B-7CAA5827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1A1C4-CD92-4F1B-A5CE-B4AEC7EE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ECFC68-447E-443B-95B0-5A9F1A31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EE5DDA-7DE9-4FA3-A5B3-4ED6FE8B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F2E80D-36BD-41F9-9F73-3A962653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DE0-29B4-4E27-BADF-A96EAC9E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3ECA-C360-473E-B883-7D63A6F0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66498C-45BD-4162-BC6F-B965013D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F4A10-6393-4B86-ABE7-51ED5145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9009C-4D96-483B-B673-456E7076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BDD662-E9ED-4B55-96DD-FEF213E5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A5302-0A16-41FD-97B3-1DCCC367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AE941-59E9-4B63-B8F5-E01D8DB4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B89784-A250-4FF3-B280-9C5854D7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C0EE75-9C5F-407D-AF0D-596B2F00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89BDA8-6CC1-4F8E-9638-010ABCAA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3D12D-DFBE-48D5-BD61-3BEF5722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7271-ED3A-4ACC-8AB4-F60AC37B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9715B6-448C-48A5-BB54-E9D9FEA2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42D245-96EE-47EF-B33F-DC34D7E7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2413FB-2CCC-4128-9C9D-380A6C6B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97B5DA-6DD5-4AD9-AB48-6A3BF13B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A92ED9-0DF2-4DFE-8E8E-9E11128D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7AAF2C-6BE2-4B41-8138-2FC10E39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B1342A-2C91-470A-A4EC-7B5AC079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E822C6-C02E-492F-86C0-383AC69C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0675E2-8933-452E-844D-9E493EF8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76CCE8-E966-4FA4-AD96-D6D42181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70CE-2104-44B3-B70E-EC695ACA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67E10E-07C1-4F21-A474-765FE754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EA6B3-298A-4DDB-8C34-53456016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994A3A-F5C3-4BCD-A5B4-961745D9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F0A34E-6D41-4D51-BA11-EE91DF3D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771B8B-D66B-4702-84FA-963A71B8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5E03D5-6028-4818-A659-66755193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CF3311-B606-4B57-886A-5838F1A8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48D1AF-A740-4F8A-9B57-FC199D0B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D21CA0-CBAE-4F55-8936-7D1FE740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41D3-9A01-415F-A237-05C7496A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C2E3-3A70-4CE1-8DB5-1C5A8C4E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1EF5C-021C-49F5-874C-915B661B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D387-62B9-4AC2-B623-A1C292B2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CE34A-CB90-4B4A-B143-52962250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8869-D90D-4FF0-A802-8A90569A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DE745-D71F-4C89-A693-B0715225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D04-CE3C-4C9A-B59A-0E312152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C672-4A07-4AAC-9490-52831ED7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5BC5-F0AD-4CFC-AE04-35ACEE0C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FDCD0-239E-4D05-9B4F-351F6F77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1A07-2106-47DC-9F39-12C62A10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EFF09-EC89-4D58-9AC9-20706663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BE71E-147F-48CB-AA4B-78FB2460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294EA-6E72-4B75-B4FF-9C2CCF77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EDDFD-4758-4872-9923-9512C30A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4123D-F111-4D72-ADEA-D77FD65E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ADFD1-5759-4BBA-9872-B98038B3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0EB-DE36-4AFB-80AE-072A67B8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4429A-259C-4B76-B8DD-52397BF9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BE0D-E630-4C4A-8AC1-1B17E705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3BC96-899D-4CAC-B1EB-D73303AC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D8A02-63EA-45EE-B7D4-60EEB107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68F82-EA81-4F47-ACF4-7A6D02E5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A118B-6D4C-4439-B82D-3AB52D18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710CB-1DFC-4522-A81F-8D2A23E4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1FFDD-CDE8-4DC3-9685-97CDAACA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A1319-536F-4F1D-91FC-961CA732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53414-282E-47FA-BF15-5D7FC17D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B32-D192-4630-A6AF-C6A06DAB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6DEC5-DCCB-4558-B8BA-A642F6E4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6A6ED-3348-48A6-90BD-042CA125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A47BD-E415-4B0B-A5D9-8FC663A7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CC902-3535-4D64-92BB-FB968D31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05FED-B9A7-418C-A70A-50E945DD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E51E8-D4F6-4D72-A182-CE48A1E8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5368C-E151-4F7C-981E-C4A83C06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71B00-6DB3-4042-B0F5-4A8F47A6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B24DA-E617-4513-8870-755EBBA1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57AB5-8EC1-420A-B63B-AFF165F0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A84-F1E2-4265-B3A1-1C6D2360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E5F3E-1F2F-4C62-A5D8-C43C1D5F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C8553-41B3-4879-B84E-33592526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2BF90-019F-449D-A889-CDD4C80C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4B82B-FB23-4458-ABE4-D3941413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5B973-985D-4F0F-B7AC-A61D3DF7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03FC6-F653-4578-87B5-4691DB4B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D6EE9-123B-43EB-A6C3-EDE549A2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E1C61-FAB7-45BF-B3FC-B7DAB25A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F16F6-32BF-4F99-AD17-55E0FA4A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214BC-3AE6-4375-8977-DBAF9FC4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B9C-42C8-4F10-B6B3-2A57115A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423FA-5AC5-430A-84B1-D7374D63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852A8-5BCC-44EC-990D-FAEFC204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7C918-9B76-4FE4-A122-75E1C62A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35252-008B-4DD3-8C6A-ACB02D23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2685F-DD48-4A26-BE54-11B41DFE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FF355-BAE4-4F9C-8AD7-8332C904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6DA8C-C8C5-4F5B-B4C2-D09EC99B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B03C3-DF88-4BFD-96B8-93284063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5AD2E-C836-4A5F-9183-B76F5016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A00C2-13F0-4620-9B0B-A6EE913A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A847-A23D-4409-9202-7959AD0D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A7198-3523-4613-A7DC-21A4B1EB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992C7-ABBD-4315-B1E1-6B626342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A1320-9197-4BDF-A9B2-FEADACA4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4FC0C-A9D1-4817-820F-E4190847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28BBB-B5EE-48D3-8E20-DC3FED41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BB7CD-7EF2-4FE4-A3C8-261D8373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762B0-B631-4120-B718-E77AC49E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6D6AF-D40D-420A-B22C-34DEE634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812C7-FDE3-4ED2-BD53-15F9AC3D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03FB2-1472-4275-9791-FB98AF60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85A-E3B1-4986-8D33-5ABA4ECB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4000" y="404640"/>
            <a:ext cx="784836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93FAA-D913-4099-BCBB-7BF994AB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7D6F0-35B0-4EF7-BA8B-F2E1E92D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22968-025A-4FCB-8EAC-6F84349B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43253-9EE1-4A07-AA7F-C4B0BCCA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4920" y="4080600"/>
            <a:ext cx="843588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37ABD-170E-4B16-B111-CCB79F61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17800" y="184428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9492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17800" y="4080600"/>
            <a:ext cx="4116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37F29-3E4D-4E56-A720-6EBEF419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4720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9840" y="184428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9492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4720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99840" y="4080600"/>
            <a:ext cx="27162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5DD98-54DD-47D7-81AB-C2A64D7D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F95D5-7724-426B-9712-17F632E1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00372-6031-4A01-A33B-ACEFAF20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080FE-3379-423E-A62E-0BA60D39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FB78-FEA3-4359-8AAA-71B910906F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AEC1-6228-493B-A3E3-D665F455DFD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449A-814D-444B-8CBD-0D1EB4C33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5DE7-9E18-4DE2-AEEB-2925648ED65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4336-D086-403E-BE1D-D5B280E92B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AA65-B5D6-4F01-A277-0DE8E64930C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DF37-8E1F-4A57-B3A8-E61DCFEA28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1959-1744-46CA-AD9D-FC334A87405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69A6-C770-498A-86FD-5E6044DB20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A9BC-C9EB-4810-8639-FC5A1FB8BAF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904F-E9CC-4C5C-9FB0-45DD456D99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6A13-17E1-452A-AA4D-4FE9424F9A7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7A47-E655-4774-B10F-8C0242B106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0389-97C0-47CD-A70A-A5C6D11375F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FD05-0F64-4F5A-8499-FF3480304D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E67B-EBEB-4368-ACCE-59117788DA4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4F30-240E-476F-96A9-541417197B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ACB6-5641-4CFA-A4A6-392E782FE9B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FAF0-F699-44D1-83F1-9953758F48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443B-6ADC-4819-B07D-4F2A42586D2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53A5-0F6F-40A3-95A4-54DB3C20AB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5CA2-8A08-4B9B-BDBF-21F7E948EC5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95E9-A8FD-49D1-AD82-034C7BCCC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3937-8F88-4E3A-BF3E-77257D54E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AC81-8B92-4A31-B375-DB98B474CF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525A-59F7-4D84-ADEE-20337614FD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E0F1-F951-4173-8494-0C9313F485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BAE5-6DF3-4CB9-977A-5B69A37F1B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A33F-F58A-4EEF-9269-BED5B3835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D1CE-039C-4706-9DCF-36B11C10B75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7FC9-181B-4E12-9D59-CAD6BA80B8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Объект 3" descr="D:\Новая папка (8)\10537301.jpg"/>
          <p:cNvPicPr/>
          <p:nvPr/>
        </p:nvPicPr>
        <p:blipFill>
          <a:blip r:embed="rId1"/>
          <a:stretch/>
        </p:blipFill>
        <p:spPr>
          <a:xfrm>
            <a:off x="324000" y="1844640"/>
            <a:ext cx="8424720" cy="475308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Тема урока 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Что объединяет эти реакции?</a:t>
            </a:r>
            <a:br>
              <a:rPr sz="3600"/>
            </a:b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394920" y="2276280"/>
            <a:ext cx="84358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7000"/>
              </a:lnSpc>
              <a:spcBef>
                <a:spcPts val="1100"/>
              </a:spcBef>
              <a:spcAft>
                <a:spcPts val="675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H</a:t>
            </a:r>
            <a:r>
              <a:rPr b="0" lang="en-US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+ O</a:t>
            </a:r>
            <a:r>
              <a:rPr b="0" lang="en-US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2H</a:t>
            </a:r>
            <a:r>
              <a:rPr b="0" lang="en-US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</a:t>
            </a:r>
            <a:endParaRPr b="0" lang="en-US" sz="4400" spc="-1" strike="noStrike">
              <a:solidFill>
                <a:srgbClr val="376092"/>
              </a:solidFill>
              <a:latin typeface="Cambria"/>
            </a:endParaRPr>
          </a:p>
          <a:p>
            <a:pPr marL="325800" indent="-325800" algn="ctr">
              <a:lnSpc>
                <a:spcPct val="107000"/>
              </a:lnSpc>
              <a:spcBef>
                <a:spcPts val="1100"/>
              </a:spcBef>
              <a:spcAft>
                <a:spcPts val="675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P + 5O</a:t>
            </a:r>
            <a:r>
              <a:rPr b="0" lang="en-US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0" lang="ru-RU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2P</a:t>
            </a:r>
            <a:r>
              <a:rPr b="0" lang="en-US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</a:t>
            </a:r>
            <a:r>
              <a:rPr b="0" lang="en-US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5</a:t>
            </a:r>
            <a:endParaRPr b="0" lang="en-US" sz="4400" spc="-1" strike="noStrike">
              <a:solidFill>
                <a:srgbClr val="376092"/>
              </a:solidFill>
              <a:latin typeface="Cambria"/>
            </a:endParaRPr>
          </a:p>
          <a:p>
            <a:pPr marL="325800" indent="-325800" algn="ctr">
              <a:lnSpc>
                <a:spcPct val="107000"/>
              </a:lnSpc>
              <a:spcBef>
                <a:spcPts val="1100"/>
              </a:spcBef>
              <a:spcAft>
                <a:spcPts val="675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a</a:t>
            </a:r>
            <a:r>
              <a:rPr b="0" lang="en-US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 + SO</a:t>
            </a:r>
            <a:r>
              <a:rPr b="0" lang="en-US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Na</a:t>
            </a:r>
            <a:r>
              <a:rPr b="0" lang="en-US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</a:t>
            </a:r>
            <a:r>
              <a:rPr b="0" lang="en-US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376092"/>
              </a:solidFill>
              <a:latin typeface="Cambria"/>
            </a:endParaRPr>
          </a:p>
          <a:p>
            <a:pPr marL="325800" indent="-325800" algn="ctr">
              <a:lnSpc>
                <a:spcPct val="107000"/>
              </a:lnSpc>
              <a:spcBef>
                <a:spcPts val="1100"/>
              </a:spcBef>
              <a:spcAft>
                <a:spcPts val="675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O + H</a:t>
            </a:r>
            <a:r>
              <a:rPr b="0" lang="ru-RU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</a:t>
            </a:r>
            <a:r>
              <a:rPr b="0" lang="ru-RU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Ca(OH)</a:t>
            </a:r>
            <a:r>
              <a:rPr b="0" lang="ru-RU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376092"/>
              </a:solidFill>
              <a:latin typeface="Cambria"/>
            </a:endParaRPr>
          </a:p>
          <a:p>
            <a:pPr marL="325800" indent="-32580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Что объединяет все эти реакции?</a:t>
            </a:r>
            <a:br>
              <a:rPr sz="3600"/>
            </a:b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394920" y="2060280"/>
            <a:ext cx="84358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7000"/>
              </a:lnSpc>
              <a:spcBef>
                <a:spcPts val="1199"/>
              </a:spcBef>
              <a:spcAft>
                <a:spcPts val="799"/>
              </a:spcAft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2AgN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=2Ag+2N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+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  <a:p>
            <a:pPr marL="315360" indent="-315360" algn="ctr">
              <a:lnSpc>
                <a:spcPct val="107000"/>
              </a:lnSpc>
              <a:spcBef>
                <a:spcPts val="1199"/>
              </a:spcBef>
              <a:spcAft>
                <a:spcPts val="799"/>
              </a:spcAft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MgC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=MgO+C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  <a:p>
            <a:pPr marL="315360" indent="-315360" algn="ctr">
              <a:lnSpc>
                <a:spcPct val="107000"/>
              </a:lnSpc>
              <a:spcBef>
                <a:spcPts val="1199"/>
              </a:spcBef>
              <a:spcAft>
                <a:spcPts val="799"/>
              </a:spcAft>
              <a:buSzPct val="1028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C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=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O+C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  <a:p>
            <a:pPr marL="315360" indent="-315360" algn="ctr">
              <a:lnSpc>
                <a:spcPct val="107000"/>
              </a:lnSpc>
              <a:spcBef>
                <a:spcPts val="1199"/>
              </a:spcBef>
              <a:spcAft>
                <a:spcPts val="799"/>
              </a:spcAft>
              <a:buSzPct val="1028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CaC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Calibri"/>
              </a:rPr>
              <a:t>=CaO+C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  <a:p>
            <a:pPr marL="315360" indent="-315360">
              <a:lnSpc>
                <a:spcPct val="107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Что объединяет все эти реакции?</a:t>
            </a:r>
            <a:br>
              <a:rPr sz="3600"/>
            </a:b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94920" y="2060280"/>
            <a:ext cx="84358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7000"/>
              </a:lnSpc>
              <a:spcBef>
                <a:spcPts val="1100"/>
              </a:spcBef>
              <a:spcAft>
                <a:spcPts val="7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Fe+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HCl=FeCl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+H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44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 algn="ctr">
              <a:lnSpc>
                <a:spcPct val="107000"/>
              </a:lnSpc>
              <a:spcBef>
                <a:spcPts val="1100"/>
              </a:spcBef>
              <a:spcAft>
                <a:spcPts val="799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CuSO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+Fe=FeSO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+Cu</a:t>
            </a:r>
            <a:endParaRPr b="0" lang="en-US" sz="44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 algn="ctr">
              <a:lnSpc>
                <a:spcPct val="107000"/>
              </a:lnSpc>
              <a:spcBef>
                <a:spcPts val="1100"/>
              </a:spcBef>
              <a:spcAft>
                <a:spcPts val="799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2Na+2HOH=2NaOH+H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44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Cl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+2NaBr=2NaCl+Br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Что объединяет  эти реакции?</a:t>
            </a:r>
            <a:br>
              <a:rPr sz="3600"/>
            </a:b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94920" y="2060280"/>
            <a:ext cx="84358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7000"/>
              </a:lnSpc>
              <a:spcBef>
                <a:spcPts val="1100"/>
              </a:spcBef>
              <a:spcAft>
                <a:spcPts val="799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NaOH+HCl=NaCl+H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endParaRPr b="0" lang="en-US" sz="44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 algn="ctr">
              <a:lnSpc>
                <a:spcPct val="107000"/>
              </a:lnSpc>
              <a:spcBef>
                <a:spcPts val="1100"/>
              </a:spcBef>
              <a:spcAft>
                <a:spcPts val="799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2HCl+K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O=2KCl+H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endParaRPr b="0" lang="en-US" sz="44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 algn="ctr">
              <a:lnSpc>
                <a:spcPct val="107000"/>
              </a:lnSpc>
              <a:spcBef>
                <a:spcPts val="1100"/>
              </a:spcBef>
              <a:spcAft>
                <a:spcPts val="799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FeCl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+2NaOH=Fe(OH)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+2NaCl</a:t>
            </a:r>
            <a:endParaRPr b="0" lang="en-US" sz="44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Изобразите тип реакции с помощью воздушных шаров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22" name="Picture 2" descr="Picture background"/>
          <p:cNvPicPr/>
          <p:nvPr/>
        </p:nvPicPr>
        <p:blipFill>
          <a:blip r:embed="rId1"/>
          <a:stretch/>
        </p:blipFill>
        <p:spPr>
          <a:xfrm>
            <a:off x="1128600" y="1916280"/>
            <a:ext cx="69598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1115640" y="333000"/>
            <a:ext cx="755964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Cambria"/>
              </a:rPr>
              <a:t>найдите ошибки</a:t>
            </a:r>
            <a:endParaRPr b="0" lang="en-US" sz="3600" spc="-1" strike="noStrike">
              <a:solidFill>
                <a:srgbClr val="376092"/>
              </a:solidFill>
              <a:latin typeface="Cambria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6092"/>
              </a:solidFill>
              <a:latin typeface="Cambria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92240" y="1557360"/>
          <a:ext cx="8627760" cy="5184720"/>
        </p:xfrm>
        <a:graphic>
          <a:graphicData uri="http://schemas.openxmlformats.org/drawingml/2006/table">
            <a:tbl>
              <a:tblPr/>
              <a:tblGrid>
                <a:gridCol w="4443120"/>
                <a:gridCol w="4184640"/>
              </a:tblGrid>
              <a:tr h="1036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O + HCl = CuCl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+ H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акция замещ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1036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OH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+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Cl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=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Cl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+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r>
                        <a:rPr b="1" lang="ru-RU" sz="2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акция обм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1038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r>
                        <a:rPr b="1" lang="ru-RU" sz="2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= 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r>
                        <a:rPr b="1" lang="ru-RU" sz="2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+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акция соедин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1036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O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+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= CO + 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акция обм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1036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=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</a:t>
                      </a:r>
                      <a:r>
                        <a:rPr b="1" lang="ru-RU" sz="2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акция раз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sp>
        <p:nvSpPr>
          <p:cNvPr id="826" name="Rectangle 3"/>
          <p:cNvSpPr/>
          <p:nvPr/>
        </p:nvSpPr>
        <p:spPr>
          <a:xfrm>
            <a:off x="1305000" y="1668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250920" y="1268280"/>
          <a:ext cx="8713800" cy="5400720"/>
        </p:xfrm>
        <a:graphic>
          <a:graphicData uri="http://schemas.openxmlformats.org/drawingml/2006/table">
            <a:tbl>
              <a:tblPr/>
              <a:tblGrid>
                <a:gridCol w="4489200"/>
                <a:gridCol w="4224600"/>
              </a:tblGrid>
              <a:tr h="1081080">
                <a:tc>
                  <a:txBody>
                    <a:bodyPr anchor="t">
                      <a:noAutofit/>
                    </a:bodyPr>
                    <a:p>
                      <a:pPr marL="46080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.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uO + 2HCl = CuCl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+ H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6080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еакция об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1076400">
                <a:tc>
                  <a:txBody>
                    <a:bodyPr anchor="t">
                      <a:noAutofit/>
                    </a:bodyPr>
                    <a:p>
                      <a:pPr marL="46080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.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NaOH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+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Cl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=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NaCl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+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6080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еакция об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1081080">
                <a:tc>
                  <a:txBody>
                    <a:bodyPr anchor="t">
                      <a:noAutofit/>
                    </a:bodyPr>
                    <a:p>
                      <a:pPr marL="46080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.  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rebuchet MS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= 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+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6080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еакция раз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1081080">
                <a:tc>
                  <a:txBody>
                    <a:bodyPr anchor="t">
                      <a:noAutofit/>
                    </a:bodyPr>
                    <a:p>
                      <a:pPr marL="46080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.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iO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+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C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 + 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6080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еакция замещ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1081080">
                <a:tc>
                  <a:txBody>
                    <a:bodyPr anchor="t">
                      <a:noAutofit/>
                    </a:bodyPr>
                    <a:p>
                      <a:pPr marL="46080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.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+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=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6080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еакция соеди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sp>
        <p:nvSpPr>
          <p:cNvPr id="829" name="Rectangle 57"/>
          <p:cNvSpPr/>
          <p:nvPr/>
        </p:nvSpPr>
        <p:spPr>
          <a:xfrm>
            <a:off x="3567600" y="204840"/>
            <a:ext cx="35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1" name="Объект 3" descr="D:\Новая папка (8)\slide-1.jpg"/>
          <p:cNvPicPr/>
          <p:nvPr/>
        </p:nvPicPr>
        <p:blipFill>
          <a:blip r:embed="rId1"/>
          <a:stretch/>
        </p:blipFill>
        <p:spPr>
          <a:xfrm>
            <a:off x="108000" y="115920"/>
            <a:ext cx="9036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Практическое задание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1332000" y="2060280"/>
            <a:ext cx="59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mbria"/>
              </a:rPr>
              <a:t>Определение типа реакции и выяснение ее признаков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pic>
        <p:nvPicPr>
          <p:cNvPr id="834" name="Picture 5" descr="Picture background"/>
          <p:cNvPicPr/>
          <p:nvPr/>
        </p:nvPicPr>
        <p:blipFill>
          <a:blip r:embed="rId2"/>
          <a:srcRect l="0" t="0" r="0" b="8700"/>
          <a:stretch/>
        </p:blipFill>
        <p:spPr>
          <a:xfrm>
            <a:off x="2556000" y="3141720"/>
            <a:ext cx="46656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Д/З    Расставить коэффициенты и определить тип реакции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mbria"/>
              </a:rPr>
              <a:t>На столе выберете листочек с домашним заданием на оценку «3», «4» , «5»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684360" y="404280"/>
            <a:ext cx="77673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орогу осилит идущий</a:t>
            </a:r>
            <a:endParaRPr b="0" lang="en-US" sz="5400" spc="-1" strike="noStrike">
              <a:solidFill>
                <a:srgbClr val="376092"/>
              </a:solidFill>
              <a:latin typeface="Cambria"/>
            </a:endParaRPr>
          </a:p>
        </p:txBody>
      </p:sp>
      <p:pic>
        <p:nvPicPr>
          <p:cNvPr id="790" name="Рисунок 3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3672000" cy="49672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2" descr="E:\конспекты уроков\обобщение и расчет задач\uspeh-300x300.jpg"/>
          <p:cNvPicPr/>
          <p:nvPr/>
        </p:nvPicPr>
        <p:blipFill>
          <a:blip r:embed="rId2"/>
          <a:stretch/>
        </p:blipFill>
        <p:spPr>
          <a:xfrm>
            <a:off x="4400640" y="2560680"/>
            <a:ext cx="36766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Дополнительная оценка за творческое задание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8" name="Picture 2" descr="Picture background"/>
          <p:cNvPicPr/>
          <p:nvPr/>
        </p:nvPicPr>
        <p:blipFill>
          <a:blip r:embed="rId1"/>
          <a:stretch/>
        </p:blipFill>
        <p:spPr>
          <a:xfrm>
            <a:off x="1476360" y="1773360"/>
            <a:ext cx="64911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3ADF-0079-48B4-B6AA-C8738936343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2"/>
          <p:cNvSpPr/>
          <p:nvPr/>
        </p:nvSpPr>
        <p:spPr>
          <a:xfrm>
            <a:off x="2776680" y="285840"/>
            <a:ext cx="372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РЕФЛЕКС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214200" y="1285920"/>
          <a:ext cx="8496360" cy="453708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4537080"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годня я узнал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ыло интересно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ыло трудно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перь я могу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 научился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ня удивило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не захотелось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2" name="Picture 2" descr="6А_Группа_2 - Форум"/>
          <p:cNvPicPr/>
          <p:nvPr/>
        </p:nvPicPr>
        <p:blipFill>
          <a:blip r:embed="rId1"/>
          <a:stretch/>
        </p:blipFill>
        <p:spPr>
          <a:xfrm>
            <a:off x="4286160" y="1500120"/>
            <a:ext cx="4643640" cy="456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mbria"/>
              </a:rPr>
              <a:t>Спасибо вам за хорошую, плодотворную и интересную работу.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pic>
        <p:nvPicPr>
          <p:cNvPr id="845" name="Picture 6" descr="Picture background"/>
          <p:cNvPicPr/>
          <p:nvPr/>
        </p:nvPicPr>
        <p:blipFill>
          <a:blip r:embed="rId2"/>
          <a:stretch/>
        </p:blipFill>
        <p:spPr>
          <a:xfrm>
            <a:off x="4083120" y="1916280"/>
            <a:ext cx="4503600" cy="3384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93" name="Объект 3" descr="D:\Новая папка (8)\01.jpg"/>
          <p:cNvPicPr/>
          <p:nvPr/>
        </p:nvPicPr>
        <p:blipFill>
          <a:blip r:embed="rId1"/>
          <a:stretch/>
        </p:blipFill>
        <p:spPr>
          <a:xfrm>
            <a:off x="179280" y="404640"/>
            <a:ext cx="864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95" name="Picture 2" descr="Схема процесса химические явления. Физические явления и химические явления химии 8 класс. Хорошо известные химические явления. Физические и химические явления в быту. Хорошо известные химические явления."/>
          <p:cNvPicPr/>
          <p:nvPr/>
        </p:nvPicPr>
        <p:blipFill>
          <a:blip r:embed="rId1"/>
          <a:stretch/>
        </p:blipFill>
        <p:spPr>
          <a:xfrm>
            <a:off x="407880" y="434880"/>
            <a:ext cx="840132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848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e2e2e"/>
                </a:solidFill>
                <a:latin typeface="Monotype Corsiva"/>
                <a:ea typeface="Calibri"/>
              </a:rPr>
              <a:t>Загадка</a:t>
            </a:r>
            <a:br>
              <a:rPr sz="2800"/>
            </a:b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Она идет, она прошла, никто не скажет, что пришла</a:t>
            </a: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pic>
        <p:nvPicPr>
          <p:cNvPr id="798" name="Рисунок 1" descr=""/>
          <p:cNvPicPr/>
          <p:nvPr/>
        </p:nvPicPr>
        <p:blipFill>
          <a:blip r:embed="rId7"/>
          <a:stretch/>
        </p:blipFill>
        <p:spPr>
          <a:xfrm>
            <a:off x="1835280" y="2060640"/>
            <a:ext cx="61768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спомните пословицы и поговорки о физических и химических явлениях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00" name="Объект 3" descr="D:\Новая папка (8)\smeshnye-stihi-pro-himiyu_1.jpg"/>
          <p:cNvPicPr/>
          <p:nvPr/>
        </p:nvPicPr>
        <p:blipFill>
          <a:blip r:embed="rId1"/>
          <a:stretch/>
        </p:blipFill>
        <p:spPr>
          <a:xfrm>
            <a:off x="181080" y="1844640"/>
            <a:ext cx="4105080" cy="208908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2" descr=""/>
          <p:cNvPicPr/>
          <p:nvPr/>
        </p:nvPicPr>
        <p:blipFill>
          <a:blip r:embed="rId2"/>
          <a:stretch/>
        </p:blipFill>
        <p:spPr>
          <a:xfrm>
            <a:off x="4253040" y="2276640"/>
            <a:ext cx="4706640" cy="324000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6" descr="Picture background"/>
          <p:cNvPicPr/>
          <p:nvPr/>
        </p:nvPicPr>
        <p:blipFill>
          <a:blip r:embed="rId3"/>
          <a:stretch/>
        </p:blipFill>
        <p:spPr>
          <a:xfrm>
            <a:off x="325440" y="1871640"/>
            <a:ext cx="37828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Что такое химическая реакция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иведите примеры химических реакций , происходящих  вокруг вас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94920" y="184428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092"/>
              </a:solidFill>
              <a:latin typeface="Cambria"/>
            </a:endParaRPr>
          </a:p>
        </p:txBody>
      </p:sp>
      <p:pic>
        <p:nvPicPr>
          <p:cNvPr id="805" name="Picture 9" descr="KS6786"/>
          <p:cNvPicPr/>
          <p:nvPr/>
        </p:nvPicPr>
        <p:blipFill>
          <a:blip r:embed="rId1"/>
          <a:srcRect l="0" t="0" r="0" b="9290"/>
          <a:stretch/>
        </p:blipFill>
        <p:spPr>
          <a:xfrm>
            <a:off x="2484360" y="1963800"/>
            <a:ext cx="424836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Что называется уравнением химической реакции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07" name="Picture 2" descr="Picture background"/>
          <p:cNvPicPr/>
          <p:nvPr/>
        </p:nvPicPr>
        <p:blipFill>
          <a:blip r:embed="rId1"/>
          <a:stretch/>
        </p:blipFill>
        <p:spPr>
          <a:xfrm>
            <a:off x="684360" y="1989000"/>
            <a:ext cx="3168360" cy="44355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4" descr="Picture background"/>
          <p:cNvPicPr/>
          <p:nvPr/>
        </p:nvPicPr>
        <p:blipFill>
          <a:blip r:embed="rId2"/>
          <a:stretch/>
        </p:blipFill>
        <p:spPr>
          <a:xfrm>
            <a:off x="3995640" y="2374920"/>
            <a:ext cx="48848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75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848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На основании какого закона составляются уравнения химических реакций?</a:t>
            </a:r>
            <a:br>
              <a:rPr sz="2800"/>
            </a:b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394920" y="1844280"/>
            <a:ext cx="8435880" cy="428148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3" descr=""/>
          <p:cNvPicPr/>
          <p:nvPr/>
        </p:nvPicPr>
        <p:blipFill>
          <a:blip r:embed="rId2"/>
          <a:stretch/>
        </p:blipFill>
        <p:spPr>
          <a:xfrm>
            <a:off x="0" y="260280"/>
            <a:ext cx="10872720" cy="705636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6"/>
          <p:cNvSpPr/>
          <p:nvPr/>
        </p:nvSpPr>
        <p:spPr>
          <a:xfrm>
            <a:off x="1095480" y="-839880"/>
            <a:ext cx="317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7:21:06Z</dcterms:created>
  <dc:creator>ирина</dc:creator>
  <dc:description/>
  <dc:language>en-US</dc:language>
  <cp:lastModifiedBy>Win-PC</cp:lastModifiedBy>
  <dcterms:modified xsi:type="dcterms:W3CDTF">2025-10-29T08:09:30Z</dcterms:modified>
  <cp:revision>43</cp:revision>
  <dc:subject/>
  <dc:title>Заголовок слайда</dc:title>
</cp:coreProperties>
</file>